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日本語学習を含んだ文化的教室活動案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　　　　　　　　資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5-6 Video Clip JAN-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31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1040" y="744120"/>
            <a:ext cx="49608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7680"/>
            <a:ext cx="28875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3160" y="9427680"/>
            <a:ext cx="28875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FDA2-2914-48D3-9AC3-551302F61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0"/>
            <a:ext cx="2887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日本語学習を含んだ文化的教室活動案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　　　　　　　　資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5-6 Video Clip JAN-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0"/>
            <a:ext cx="2887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日本語学習を含んだ文化的教室活動案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　　　　　　　　資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5-6 Video Clip JAN-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CA1D-1B8D-4C6C-AD19-C716E9A73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FDD9-F03A-4541-B9E9-A261E529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A4C4-0574-4FC4-886C-8C551C79D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7F16-D7A6-43EF-AB50-65E19F120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AC3B-517B-4A0C-BCE0-41B7A655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EF98-CB08-43E7-B6CE-C1E46160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A75A-3008-4634-B07A-512CAC37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33F0-9B40-43CF-B56B-63501E90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1266-10B4-478C-95A4-35E74391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E4B1-FAE9-4676-88C5-7938EEC2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5C92-3E25-4C73-B276-80E04BDA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CE27-A202-457F-9781-B4A2A3F2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E7F3-FF93-47F6-87A1-E3358D07F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t’s play 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Janken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ium00356"/>
          <p:cNvPicPr/>
          <p:nvPr/>
        </p:nvPicPr>
        <p:blipFill>
          <a:blip r:embed="rId1"/>
          <a:stretch/>
        </p:blipFill>
        <p:spPr>
          <a:xfrm>
            <a:off x="3132000" y="3716280"/>
            <a:ext cx="240048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play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Jan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he game of ‘rock-paper-scissors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called ‘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an k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 in Japane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5940360" y="4653000"/>
            <a:ext cx="1514520" cy="1781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1547640" y="4508640"/>
            <a:ext cx="1743120" cy="2047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3"/>
          <a:stretch/>
        </p:blipFill>
        <p:spPr>
          <a:xfrm>
            <a:off x="3708360" y="2349360"/>
            <a:ext cx="1709640" cy="172404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7"/>
          <p:cNvGrpSpPr/>
          <p:nvPr/>
        </p:nvGrpSpPr>
        <p:grpSpPr>
          <a:xfrm>
            <a:off x="2050920" y="3464640"/>
            <a:ext cx="1613880" cy="1296720"/>
            <a:chOff x="2050920" y="3464640"/>
            <a:chExt cx="1613880" cy="1296720"/>
          </a:xfrm>
        </p:grpSpPr>
        <p:sp>
          <p:nvSpPr>
            <p:cNvPr id="57" name="AutoShape 8"/>
            <p:cNvSpPr/>
            <p:nvPr/>
          </p:nvSpPr>
          <p:spPr>
            <a:xfrm rot="2113800">
              <a:off x="2700000" y="3573000"/>
              <a:ext cx="719280" cy="1079640"/>
            </a:xfrm>
            <a:prstGeom prst="upArrow">
              <a:avLst>
                <a:gd name="adj1" fmla="val 50000"/>
                <a:gd name="adj2" fmla="val 3752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9"/>
            <p:cNvSpPr/>
            <p:nvPr/>
          </p:nvSpPr>
          <p:spPr>
            <a:xfrm>
              <a:off x="2050920" y="350028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0"/>
          <p:cNvGrpSpPr/>
          <p:nvPr/>
        </p:nvGrpSpPr>
        <p:grpSpPr>
          <a:xfrm>
            <a:off x="5173920" y="3489840"/>
            <a:ext cx="1558800" cy="1319400"/>
            <a:chOff x="5173920" y="3489840"/>
            <a:chExt cx="1558800" cy="1319400"/>
          </a:xfrm>
        </p:grpSpPr>
        <p:sp>
          <p:nvSpPr>
            <p:cNvPr id="60" name="AutoShape 11"/>
            <p:cNvSpPr/>
            <p:nvPr/>
          </p:nvSpPr>
          <p:spPr>
            <a:xfrm rot="19620000">
              <a:off x="5435280" y="3573000"/>
              <a:ext cx="647640" cy="1152720"/>
            </a:xfrm>
            <a:prstGeom prst="downArrow">
              <a:avLst>
                <a:gd name="adj1" fmla="val 50000"/>
                <a:gd name="adj2" fmla="val 4449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2"/>
            <p:cNvSpPr/>
            <p:nvPr/>
          </p:nvSpPr>
          <p:spPr>
            <a:xfrm>
              <a:off x="6012000" y="35002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13"/>
          <p:cNvGrpSpPr/>
          <p:nvPr/>
        </p:nvGrpSpPr>
        <p:grpSpPr>
          <a:xfrm>
            <a:off x="3564000" y="5445000"/>
            <a:ext cx="1439640" cy="865440"/>
            <a:chOff x="3564000" y="5445000"/>
            <a:chExt cx="1439640" cy="865440"/>
          </a:xfrm>
        </p:grpSpPr>
        <p:sp>
          <p:nvSpPr>
            <p:cNvPr id="63" name="AutoShape 14"/>
            <p:cNvSpPr/>
            <p:nvPr/>
          </p:nvSpPr>
          <p:spPr>
            <a:xfrm>
              <a:off x="3564000" y="5589720"/>
              <a:ext cx="1439640" cy="720720"/>
            </a:xfrm>
            <a:prstGeom prst="leftArrow">
              <a:avLst>
                <a:gd name="adj1" fmla="val 50000"/>
                <a:gd name="adj2" fmla="val 4993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5"/>
            <p:cNvSpPr/>
            <p:nvPr/>
          </p:nvSpPr>
          <p:spPr>
            <a:xfrm>
              <a:off x="4356000" y="5445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watch the vide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JanKenArms.MPG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7"/>
          <p:cNvSpPr/>
          <p:nvPr/>
        </p:nvSpPr>
        <p:spPr>
          <a:xfrm>
            <a:off x="5940360" y="6308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click the pi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11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ly, you can show this website to explain how to pla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ank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‘Erin’s Challenge! I Can Speak Japanese.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.B. This instruction includes the game ‘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ttchi muite ho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s://www.erin.ne.jp/en/lesson07/letstry/index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11:57:57Z</dcterms:created>
  <dc:creator>h.tanaka</dc:creator>
  <dc:description/>
  <dc:language>en-US</dc:language>
  <cp:lastModifiedBy>Hiroko Tanaka</cp:lastModifiedBy>
  <cp:lastPrinted>2014-03-07T16:25:31Z</cp:lastPrinted>
  <dcterms:modified xsi:type="dcterms:W3CDTF">2014-03-07T16:26:16Z</dcterms:modified>
  <cp:revision>10</cp:revision>
  <dc:subject/>
  <dc:title>Let’s play Janken !</dc:title>
</cp:coreProperties>
</file>